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AF01-18D4-4B1F-B7D3-248CC0E878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98F8-D97B-4C63-9051-46E84B3B9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0216-8B27-483D-97CE-8BB79E7B24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77CE2-3A7E-4D77-81DE-9D8D21FDC5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7BCA-560D-4649-9F0E-79E74E26E0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CCF2-64AF-4843-831C-A86B4C19F3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5729-FCCD-4D1E-8273-70A27D4522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E2D8-BCC9-4A11-B879-DB306D32BD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D76F3-2855-4AD7-8E76-ECCC47C4C2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DD50-2779-4F9F-9ABA-653599D2D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7B5A-CCD5-479D-9148-69193945A1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10E7-B072-4CFF-BFDF-57C7798819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1400"/>
            </a:br>
            <a:r>
              <a:rPr b="1" lang="ru-RU" sz="14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76A8-09C9-45A6-A1CD-CF4660752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F701-B6DF-4086-A824-79BEE5372D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65BB-53A0-4F1C-9DB7-286A2D3FD5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DC14-9509-48FF-A032-1A02EE852A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0AB5-DA9F-4F65-8456-C733E57106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4F6B-603F-4171-99BC-B91DCBA2B7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A6FD-BD52-40C0-9FC5-F9A7E0F73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B61A-070C-4EEF-9E60-53AF28E972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3D7-21CD-4A67-A1CB-6493108E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7371-FD57-4B9E-8E50-02746FDE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B358-4F58-475D-A6CD-585D60830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1E5-A4A3-46B1-9B71-092C9AAD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DE5F-C4DD-483D-8829-0E99C8B2F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C55D-2741-4FF9-BC5C-3583C878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BD47-F501-4CB4-9A99-B807CA4D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1608-F260-4A80-A1E2-5D9A5496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2665-4F77-4892-95CB-D685ACCA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AF6F-FF69-4CAE-A971-EDC52A14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D4AD-DFEF-4E68-94B7-E62E2415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8E5-CB32-4E36-8F03-E8AA4974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CF00-7570-4BC6-AD2E-8EC90FB3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BD8D-B16D-4FE1-B560-43776002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4335-2522-4AFB-A596-0F670B82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928B-E2E8-4E6D-A739-08F5D6DE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B01A-3FCB-4819-93AF-C8414E63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69D1-E967-4AE9-A9EF-B8F8582F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900D-7919-4C32-8898-3886DED1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5768-A2F1-46BE-B941-78430835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C5C-F626-43D7-8E81-F3BD9F56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6800-CFDC-4211-9562-670E9ED3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FCD8-B6B4-4298-8BA2-823EED93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0CD0-4A5C-4CFF-827E-0E4C5E09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0A77-D2C0-42BB-A258-4034B4AE932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54BC-C246-49FE-82B2-999FE6423D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для шаблонов\цветы\коричнев.gif"/>
          <p:cNvPicPr/>
          <p:nvPr/>
        </p:nvPicPr>
        <p:blipFill>
          <a:blip r:embed="rId3"/>
          <a:stretch/>
        </p:blipFill>
        <p:spPr>
          <a:xfrm>
            <a:off x="7215120" y="6551640"/>
            <a:ext cx="90972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53DF-2191-425D-B6CB-D5EA004080D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9833-68BF-46E3-915E-5B3678B9D4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77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08000" y="4149720"/>
            <a:ext cx="4978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C:\Documents and Settings\Admin\Рабочий стол\для шаблонов\цветы\Безимени-1пп.gif"/>
          <p:cNvPicPr/>
          <p:nvPr/>
        </p:nvPicPr>
        <p:blipFill>
          <a:blip r:embed="rId1"/>
          <a:stretch/>
        </p:blipFill>
        <p:spPr>
          <a:xfrm>
            <a:off x="0" y="0"/>
            <a:ext cx="5500800" cy="43340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32000" y="2174760"/>
            <a:ext cx="5184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2800"/>
            </a:b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5:36:49Z</dcterms:created>
  <dc:creator>Федотова Виктория Александровна</dc:creator>
  <dc:description/>
  <dc:language>en-US</dc:language>
  <cp:lastModifiedBy>LEGION</cp:lastModifiedBy>
  <dcterms:modified xsi:type="dcterms:W3CDTF">2015-01-26T13:59:18Z</dcterms:modified>
  <cp:revision>15</cp:revision>
  <dc:subject/>
  <dc:title>Слайд 1</dc:title>
</cp:coreProperties>
</file>